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B4F-5F5F-4D69-93A2-C5ABC540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D06-E338-499D-BFA3-E5244A0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A9093-0FC9-462A-B124-29382772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1B2B2-4253-4598-BE39-D93AAD89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DA35C-F9C1-41E0-B5D2-ABCD73F8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7DFF4-D1DA-4A0E-B885-692A2ABF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EEEF5-522F-4C6E-BB9C-A8BE0A27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5EF81-D32C-4943-92C3-E99EAB1C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E6C66-BBE1-42AD-A937-7514FCEF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F7EE5-1DB6-4291-95B0-E09BC587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673FB-328A-474D-9F30-51DFAE81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23F9C-7346-4F5E-B49E-9F00D5C2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41F-D06E-42B0-9A31-B70B7F69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058D6-64EE-40FE-A12F-543DE3E9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12D73-8F73-4E0E-AB22-8894ED0D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DA76B-0F16-49A2-AE43-2E97DDDE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A9B31-4BA5-4A20-88D9-20E8DBE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6766D-24DC-44A3-B7BC-1402C8C5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C8902-7589-4336-B02F-FCC63472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FC39B-D68E-447A-80BE-B5437480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CBFBD-AA12-490F-93F5-80FC0195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C8493-512D-4757-A7C6-6BCC3F71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6F8E1-CB86-47D4-91CC-5113439E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B6E-1EFE-4457-A22C-EA636F84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2639E-5450-4DE3-B70D-9FFAEF54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8500-223B-43F3-9BF9-15728108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506B-9965-40C8-9A43-E2152BC7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5339-0D54-4EAA-B25F-A9CCDF11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27C1-9593-49A1-A08A-2F54BF69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D890-08FE-4D8E-BA01-333398EB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428E-0CA9-414D-B960-A34BEF4B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7856-82B2-41C5-82BF-B5867451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323-D895-4E4D-928F-1DFED626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1C18-E1FF-48C1-A2CE-7EC3D50C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EA7A-1EBC-4A91-96AF-F443848D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6482-A531-46F4-AB0E-66AC24F0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470B-2095-48CC-9D90-B8D9B2D2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DD44-5237-4272-9700-04CE0562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F0D6-8A10-47BE-8529-9659D8AB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87C0-33A4-439B-8C7A-C48BC407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75B3-99C1-46E7-9385-507D15AF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13E1-87A8-47B2-A077-218E3C4F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FDAA-A367-44F6-A585-0A154F0A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DFE-C526-48B4-9F5C-78B9874B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2BB62-6EBE-4A9A-AEFE-525FFE0E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FB0B-A0D9-4759-B318-0E30947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591C-C044-4069-BCD3-2460276D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52122-2DD3-4423-B851-4D7FB9A9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4C98-03FE-4640-B043-E09CD8A3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5AC5-2003-43DA-8D16-50FFC67C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B857-5C77-4E3B-AAD9-8C7B114A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52D1-1886-41B1-9FDC-E7A8C512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6170-B103-455A-A929-79116317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E749-CFA0-4938-8BF2-38B4F4F3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B28-77ED-408E-9F26-6D4686A1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D4FF-833C-4343-9F97-7D17BA3C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828A-B344-47FB-8FB2-DE6F1A1C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77625-16CF-4A04-AF3D-BAF743BE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C264-0C0D-4543-A9AE-2AA80ED5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6B18-43CA-4434-9299-A9D28086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0E274-1609-4D14-BD6D-69EF40E9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84E2-1781-470B-8E8D-43211C28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A5AFC-DD65-45A1-A31C-96EC8E6E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EF59-4148-4C90-8768-E8F68C96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F12AD-58D3-40FE-8ED4-CB405409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97E-A852-4FE6-BCBD-2FB5FE3E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1E7B6-D220-4BAF-A833-286FCC9B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9076-8FD3-4789-8B93-F3945B43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84A98-D0D8-4A93-9FEC-B5938A38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AB3DD-2F66-4248-AE73-769B15CB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4FBD4-47B6-42C3-B1D2-D6081DF4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98898-198A-458F-867E-CF3B51F6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55369-B015-42CE-9556-BBDB8230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4FCA4-33FD-4CB0-AC7F-152FBD4E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74F2C-BE16-4710-A32A-3BE794BB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2E15-9367-486D-98BB-BEB2120B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454-4B24-4690-8182-CC36E590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F9F00-6D6A-493E-B96C-BC7C0784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AFE70-D0DB-4E4D-BC0D-5F780A8A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FF579-9940-49AD-91A1-2149A9F6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FBC03-F2E8-49A3-A322-6D85116B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D57A7-0EFC-4869-8D98-EB74DB4B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A9913-236B-4C4C-876B-427F11A8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E7598-2495-492E-BC3C-88C96965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AF95D-C057-4718-861C-DEE3CB63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5C61F-CF42-4B1F-BD43-EECDCA7A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B7596-78E6-4203-9B0C-0FB9BFE7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7DF-620F-45E7-A42C-4E5C7869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1F8D3-6FE0-4C30-AE7E-870CA11C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77D6F-5AD6-44AE-9638-6F43EC4F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8CC70-6244-4C97-9591-6C44FE98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A2033-D05E-456A-A22C-D55F12B0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798B0-F9E7-4593-9884-C79F22AA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12750-76FC-405D-9034-4810F6CD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23BC4-255F-4D49-9054-1127DFC9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6CD57-B4A6-4DC6-8C18-EBBBC926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F2027-1CA1-4155-8A0B-D07BCDAD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C74DC-7B51-447B-AA5F-929F23A9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9FE-BE5A-4FAE-9C03-F9ABF3A9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F334C-514B-4BE9-BD91-62FB76EA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E1B19-ACCE-4125-BFA4-458B5064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32AE9-7280-47E2-A2B1-7C6E07DD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E0A57-6A7E-4B82-8072-5BCB9ABB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3A5ED-8545-4FD2-819C-1CE226F5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B4728-6225-45AC-B44A-96072851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32567-9B99-49D3-8F85-33BB2E60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59FDB-2203-4006-BB62-F46C287C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AE8A3-4883-4FCF-8B79-C605D44F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D134E-463A-4EB8-954A-91DD6636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8BB-77B8-443F-8690-E8E7980B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3C14B-F81C-49E9-B0B6-4C75CE1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C06E9-B8B1-42B3-B25D-BFFAB080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7F3AD-7122-4D0F-83CE-532B06E4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C60B6-32FB-4EF9-8F0E-E79CD7AA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C3989-AB98-40D8-8CA2-5678DDE6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379B2-26FA-4ABD-9491-4BE71355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FC873-6BE8-4C96-9BFD-29DB55F6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B19A7-C33A-4B76-9317-31B5EED9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B0862-8F49-4C86-80CE-857918DC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461EA-DDAD-47E3-B296-DE1350DE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2434-F9FD-41E6-A88E-9E37EE8AEB2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A3B8-A27A-44DB-A0FD-6F61FB58C8F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2D3D-5A77-4798-B0D4-DCB0939D29E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8451-154C-465C-A844-A60C4FCC5F3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EF53-D332-4B82-9894-4E2ABBBB9CD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0DF6-58B8-4098-9F45-D94F6898690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4019-7BD3-4AF2-9C89-F651288B86F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01A5-7D00-4A61-9763-C99F7353167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3FB9-E392-421E-A1D1-23BCB120702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266D-5719-489D-922F-2448A5388D0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3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김진수입니다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스즈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와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량위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경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박정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유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히로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리밍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Introduce yourself (in Korean) with the sentences from Lesson 1 t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는 스즈키입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이름은 김진수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만나서 반갑습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처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or the firs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뵙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ee, m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보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뵈옵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뵙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반갑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glad, 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Irregular variation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반가웠습니다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ostposition making nou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 선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은 비가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oot of the declarative ending when a noun is used as predicate (subject supp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김영수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문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상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 humble expression of the first personla pronoun ‘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 Become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with postposition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학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미국 사람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가 그 일을 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제 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내 가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한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Kore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구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사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맑은 고딕"/>
              </a:rPr>
              <a:t>office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) work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의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중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시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meric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es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일본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Japa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저는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지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09T20:51:14Z</dcterms:modified>
  <cp:revision>76</cp:revision>
  <dc:subject/>
  <dc:title>KOREAN LANGUAGE</dc:title>
</cp:coreProperties>
</file>